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C73-4633-4609-84CB-BC9A9D4B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B6C-8C00-4730-81C4-6471CC7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13E-F1FC-4F61-B4D2-AD071BC9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1E6-D932-475A-B482-511D9186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0A8-B1DF-47E0-A910-CB294F36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24C-CD77-457D-AB67-F28CF01E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C98-E6B4-41E6-BEE8-40D3D300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3E2-7462-4E9F-8C96-32C8AA8B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44-20CF-4D15-9047-165BD25A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D7-FD0E-4054-B926-EABC0BE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BBE-8550-4886-B1AC-4551F16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068-8E72-472B-B193-17F17D5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5A19-1251-4BE6-8DD6-6E1D69C926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56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ZÁKON č. 580/2004 Z.z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0066cc"/>
                </a:solidFill>
                <a:latin typeface="Arial"/>
              </a:rPr>
              <a:t>Zák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0066cc"/>
                </a:solidFill>
                <a:latin typeface="Arial"/>
              </a:rPr>
              <a:t>o zdravotnom poist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4200" y="1714680"/>
            <a:ext cx="8569440" cy="35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000000"/>
                </a:solidFill>
                <a:latin typeface="Arial"/>
              </a:rPr>
              <a:t>Zmeny pre platiteľov poistnéh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000000"/>
                </a:solidFill>
                <a:latin typeface="Arial"/>
              </a:rPr>
              <a:t>od 1.1.20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0560" y="3357360"/>
            <a:ext cx="8569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movacie povinnosti, odložené kvô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ndemickej situácii, bolo potrebné splni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8. 1. 202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movacia povinnosť takto splnená sa považuje za splnenú vč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50920" y="476280"/>
            <a:ext cx="856908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znamovacie povinnosti poča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ndemickej situácie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úvisiacej s COVID-19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56908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známenie zamestnávateľa o poistencoch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mene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latiteľa poistného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verejné zdravo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istenie musia zamestnávatelia zasiela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lučne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 elektronickej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bez ohľadu na počet zamestnanc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50920" y="765000"/>
            <a:ext cx="8569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znamovacie povinnosti zamestnávateľa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856908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znam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usia zamestnávatelia zasiela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lučne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 elektronickej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50920" y="765000"/>
            <a:ext cx="8569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Oznamovanie vzniku, zmeny alebo zániku zamestnávateľa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560" y="2707920"/>
            <a:ext cx="8569080" cy="30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kaz preddavkov na poistné na verejné zdravot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istenie zamestnávateľa" (mesačný výka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usí zamestnávate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asielať výlučne v elektronickej form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a to bez ohľadu na počet zamestnanco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476280"/>
            <a:ext cx="8569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ykazovanie preddavkov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a poistné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7:13Z</dcterms:created>
  <dc:creator>Palo</dc:creator>
  <dc:description/>
  <dc:language>en-US</dc:language>
  <cp:lastModifiedBy>Kukučka Pavol</cp:lastModifiedBy>
  <dcterms:modified xsi:type="dcterms:W3CDTF">2021-01-13T20:12:45Z</dcterms:modified>
  <cp:revision>640</cp:revision>
  <dc:subject/>
  <dc:title>Snímek 1</dc:title>
</cp:coreProperties>
</file>